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E70-FB87-456D-9E49-AF789851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D01-E92C-4D07-B50C-9EFD16F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59A-DB7D-4EFF-AFD4-93FCE87B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0C8-22C5-4C06-8D20-A16DB68E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CFE-FFA3-4F2A-8D43-79F92A7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906-6F56-41FA-BBE9-32DDC2A7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06D-B75E-432B-B35F-C62DCBC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91E-E209-4B99-B581-E0EF63B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45E-563B-46BB-9785-3D7476F8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B37-95AB-444C-87E6-6AB167F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AA2-72A1-46CE-97DA-7CF2AE0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0A4-68BC-478D-B0CD-5783CAFF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951-9241-4878-8F27-5FA11A270F87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8179c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The aims of this lesson are to be able to: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draw a scatter graph from given data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draw a line of best fi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use the line to predict results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5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The following table is a record of average monthly rainfall and average monthly temperature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990720"/>
          <a:ext cx="7848720" cy="952560"/>
        </p:xfrm>
        <a:graphic>
          <a:graphicData uri="http://schemas.openxmlformats.org/drawingml/2006/table">
            <a:tbl>
              <a:tblPr/>
              <a:tblGrid>
                <a:gridCol w="1873080"/>
                <a:gridCol w="498600"/>
                <a:gridCol w="496800"/>
                <a:gridCol w="500040"/>
                <a:gridCol w="497160"/>
                <a:gridCol w="496800"/>
                <a:gridCol w="498600"/>
                <a:gridCol w="498240"/>
                <a:gridCol w="496800"/>
                <a:gridCol w="498600"/>
                <a:gridCol w="496800"/>
                <a:gridCol w="500040"/>
                <a:gridCol w="497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Rainfall (mm)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Temp. (</a:t>
                      </a: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C)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676520" y="2057400"/>
            <a:ext cx="6095880" cy="4496400"/>
            <a:chOff x="1676520" y="2057400"/>
            <a:chExt cx="6095880" cy="4496400"/>
          </a:xfrm>
        </p:grpSpPr>
        <p:grpSp>
          <p:nvGrpSpPr>
            <p:cNvPr id="47" name=""/>
            <p:cNvGrpSpPr/>
            <p:nvPr/>
          </p:nvGrpSpPr>
          <p:grpSpPr>
            <a:xfrm>
              <a:off x="2057400" y="2057400"/>
              <a:ext cx="5715000" cy="4114800"/>
              <a:chOff x="2057400" y="2057400"/>
              <a:chExt cx="5715000" cy="4114800"/>
            </a:xfrm>
          </p:grpSpPr>
          <p:sp>
            <p:nvSpPr>
              <p:cNvPr id="48" name=""/>
              <p:cNvSpPr/>
              <p:nvPr/>
            </p:nvSpPr>
            <p:spPr>
              <a:xfrm>
                <a:off x="2057400" y="6172200"/>
                <a:ext cx="5715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2057400" y="2057400"/>
                <a:ext cx="0" cy="411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24145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7716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31287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34862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38433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2004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455760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49147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2718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56293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9864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3435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7006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705780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74152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7400" y="22993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25412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400" y="27835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57400" y="30254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400" y="32673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7400" y="35096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57400" y="37515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57400" y="39934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7400" y="42357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7400" y="44776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57400" y="47196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57400" y="49618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57400" y="52038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7400" y="54457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56880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57400" y="59299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905120" y="6216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62164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6216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6216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6216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5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6216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6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5486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5720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5812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124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095880" y="64911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df9"/>
                </a:solidFill>
                <a:latin typeface="Comic Sans MS"/>
              </a:rPr>
              <a:t>Rainfall</a:t>
            </a:r>
            <a:endParaRPr b="0" lang="en-US" sz="1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df9"/>
                </a:solidFill>
                <a:latin typeface="Comic Sans MS"/>
              </a:rPr>
              <a:t>Temp.</a:t>
            </a:r>
            <a:endParaRPr b="0" lang="en-US" sz="1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9092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3434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6483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88620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80060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0481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89548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37339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7432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8954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3526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812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8128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62720" y="1905120"/>
            <a:ext cx="2514600" cy="304560"/>
            <a:chOff x="5562720" y="1905120"/>
            <a:chExt cx="2514600" cy="304560"/>
          </a:xfrm>
        </p:grpSpPr>
        <p:sp>
          <p:nvSpPr>
            <p:cNvPr id="114" name=""/>
            <p:cNvSpPr/>
            <p:nvPr/>
          </p:nvSpPr>
          <p:spPr>
            <a:xfrm flipV="1">
              <a:off x="55627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0199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308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1028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54380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773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0"/>
            <a:ext cx="7086600" cy="5076720"/>
            <a:chOff x="228600" y="0"/>
            <a:chExt cx="7086600" cy="5076720"/>
          </a:xfrm>
        </p:grpSpPr>
        <p:grpSp>
          <p:nvGrpSpPr>
            <p:cNvPr id="121" name=""/>
            <p:cNvGrpSpPr/>
            <p:nvPr/>
          </p:nvGrpSpPr>
          <p:grpSpPr>
            <a:xfrm>
              <a:off x="1219320" y="0"/>
              <a:ext cx="6095880" cy="4496400"/>
              <a:chOff x="1219320" y="0"/>
              <a:chExt cx="6095880" cy="44964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600200" y="0"/>
                <a:ext cx="5715000" cy="4114800"/>
                <a:chOff x="1600200" y="0"/>
                <a:chExt cx="5715000" cy="4114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600200" y="4114800"/>
                  <a:ext cx="571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1600200" y="0"/>
                  <a:ext cx="0" cy="411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19573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144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26715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30290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33861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7432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10040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4575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8146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1721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55292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58863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62434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0060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9580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600200" y="2419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00200" y="4838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00200" y="7261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00200" y="9680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00200" y="12099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600200" y="14522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00200" y="16941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00200" y="19360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00200" y="21783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00200" y="24202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00200" y="26622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00200" y="29044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00200" y="31464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600200" y="33883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00200" y="36306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00200" y="38725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1447920" y="4159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57400" y="415908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19520" y="41590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3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05320" y="41590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4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67080" y="415908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5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415908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6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95280" y="34290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971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5146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981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19320" y="15238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19320" y="10666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3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38680" y="44341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df9"/>
                  </a:solidFill>
                  <a:latin typeface="Comic Sans MS"/>
                </a:rPr>
                <a:t>Rainfall</a:t>
              </a:r>
              <a:endParaRPr b="0" lang="en-US" sz="18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df9"/>
                  </a:solidFill>
                  <a:latin typeface="Comic Sans MS"/>
                </a:rPr>
                <a:t>Temp.</a:t>
              </a:r>
              <a:endParaRPr b="0" lang="en-US" sz="18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22860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25909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182880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22100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274320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600" y="9907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7080" y="25909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8384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16765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3880" y="6858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3720" y="83844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129564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52280" y="47242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We will now draw a line of best fit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066680"/>
            <a:ext cx="5410440" cy="2971800"/>
          </a:xfrm>
          <a:prstGeom prst="line">
            <a:avLst/>
          </a:prstGeom>
          <a:ln w="381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5410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1. Estimate the rainfall when the temperature is 20</a:t>
            </a:r>
            <a:r>
              <a:rPr b="0" lang="en-GB" sz="2000" spc="-1" strike="noStrike">
                <a:solidFill>
                  <a:srgbClr val="28179c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C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20968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5410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pprox 38mm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1722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2. Estimate the temperature when the rainfall is 50mm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95680" y="2666880"/>
            <a:ext cx="0" cy="1447920"/>
          </a:xfrm>
          <a:prstGeom prst="line">
            <a:avLst/>
          </a:prstGeom>
          <a:ln w="2844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599840" y="2666880"/>
            <a:ext cx="2895480" cy="0"/>
          </a:xfrm>
          <a:prstGeom prst="line">
            <a:avLst/>
          </a:prstGeom>
          <a:ln w="2844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Approx. 15</a:t>
            </a:r>
            <a:r>
              <a:rPr b="0" lang="en-GB" sz="2000" spc="-1" strike="noStrike">
                <a:solidFill>
                  <a:srgbClr val="00c3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9144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When the line of best fit slopes downwards from left to right, then there is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negative correlation</a:t>
            </a: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04812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When the line of best fit slopes upwards from left to right, then there is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positive correlation</a:t>
            </a: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47:44Z</dcterms:modified>
  <cp:revision>8</cp:revision>
  <dc:subject/>
  <dc:title>PowerPoint Presentation</dc:title>
</cp:coreProperties>
</file>